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5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2CF-C5EE-4CA5-8F95-E4F27A58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159-4FCE-41F0-8842-646F8411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A2C-17BD-4342-8B02-6662F4FD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EA0-1076-4CDA-B68C-488AC3BA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85CB-83B2-4EF2-A29D-BFE48086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AFCA-9DFC-427D-98B7-C5A6F6C3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F580-8BEB-45CB-8DA4-B9DA600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9B18-F219-4EA9-BAA6-1204827B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7DB8-BEB7-45E5-89C5-50A0932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2D1A-F5FE-4DB7-A6F7-F259B3A8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DE0B-ED7F-4504-9290-3C290B5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7B9-6433-48F6-AE31-B7404E8D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D5CC-2089-4045-88D5-C82F49E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699E-AB0B-4D8F-8D7B-25606DE9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5E99-BDB9-4355-844C-7D794E7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4F95-D445-4DE7-8B86-E3AE0ADE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B5EB-6CE2-4F18-A61D-E41EDF54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B94-84F2-4253-A156-C3DD8FD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A8F-C0E7-43B5-B807-DF28D222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C32-CE88-4C3D-B929-87B55A5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863-001E-4847-8ADE-7C38E836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9EE-0AC5-41F2-ABD8-B2031AE2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4A3-61AA-42DB-8B47-07E70793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148-E74E-4A65-96FE-9901B5DA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78C6-FB6B-45BC-9A3A-CC9D70524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C759-107D-4ADB-AC75-E5D2C3FAD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6/Nuna3atZandvoort1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re.energy.gov/windandhydro/windpoweringamerica/images/windmaps/installed_capacity_2006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ernativ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the Fossil Fuel Addiction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941c"/>
                </a:solidFill>
                <a:uFillTx/>
                <a:latin typeface="Arial"/>
              </a:rPr>
              <a:t>Solar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e941c"/>
                </a:solidFill>
                <a:uFillTx/>
                <a:latin typeface="Arial"/>
              </a:rPr>
              <a:t>Photovoltaics</a:t>
            </a:r>
            <a:r>
              <a:rPr b="1" lang="en-US" sz="3200" spc="-1" strike="noStrike">
                <a:solidFill>
                  <a:srgbClr val="ee941c"/>
                </a:solidFill>
                <a:latin typeface="Arial"/>
              </a:rPr>
              <a:t>: To make electr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to electricity at the atomic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a solid semiconductor material like silic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bs photons and releases electrons that are captured and flow through a w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electric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4233960" cy="3208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81480" y="2666880"/>
            <a:ext cx="36766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rect Solar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assive solar energ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passively heating a house, wate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roper building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51920"/>
            <a:ext cx="85410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e941c"/>
                </a:solidFill>
                <a:uFillTx/>
                <a:latin typeface="Arial"/>
              </a:rPr>
              <a:t>Solar to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n tracking mirrors focus the heat of the sun (550 – 1500 F) on a receiver (1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eats water or molten salt (2) (salt stores heat long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nerates steam for electricity (3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0199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0" y="4495680"/>
            <a:ext cx="175248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team 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876920"/>
            <a:ext cx="0" cy="60948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63975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enefits of Solar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ess fuel sou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an be used in remot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olar power is pollution free during 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Little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osts are low, after initial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Problems of Solar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nsive to start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silicon Solar cells are cos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large initial capital inv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lots of land (dese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create energy at night or cloudy days, need to store in battery on good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0yrpayback-large" descr=""/>
          <p:cNvPicPr/>
          <p:nvPr/>
        </p:nvPicPr>
        <p:blipFill>
          <a:blip r:embed="rId2"/>
          <a:stretch/>
        </p:blipFill>
        <p:spPr>
          <a:xfrm>
            <a:off x="152280" y="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ere is Solar Power being Utilized today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Jap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Top country for photovoltaic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r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econd highest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United Sta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Third highest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that are best suited for solar energy systems in the U.S. = des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s of Nevada, Utah, Arizona, New Mex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ar power for transporta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800px-Nuna3atZandvoort1" descr="Image:Nuna3atZandvoort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295280"/>
            <a:ext cx="5943600" cy="419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57150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a practical solar powered car have been an engineering goal for over 2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ernativ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he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 Cur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Fuel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nd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5752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ffffff"/>
                </a:solidFill>
                <a:latin typeface="Calisto MT"/>
              </a:rPr>
              <a:t>Wind machines use blades to collect the wind’s kinetic energy. The wind turns the blades, which spin a shaft, which connects to a generator and makes electricity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760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viron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d CO2 and SO2 e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the reliance on non-renewab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needed to build turbine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ly recov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farms use les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arm and graze around turb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27 wind turbines"/>
          <p:cNvPicPr/>
          <p:nvPr/>
        </p:nvPicPr>
        <p:blipFill>
          <a:blip r:embed="rId2"/>
          <a:stretch/>
        </p:blipFill>
        <p:spPr>
          <a:xfrm>
            <a:off x="2438280" y="3124080"/>
            <a:ext cx="4381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y and not aesthetically ple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deaths of birds and b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Economic Problem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truct and main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speeds are fastest off or near sh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constructing in these area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land: best sites often in remo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, mountain p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37240" y="0"/>
            <a:ext cx="4406760" cy="3886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472428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’s using w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 (3%) Germany (6%) Denmar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0%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 : less than 1% electricity from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with most wind turbine produc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 and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0 million dollar wind farm planned for North Dak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This map shows the installed wind capacity in megawatts.  As of September 30, 2006, 11,078 MW have been installed. Alaska, 2 MW; Hawaii, 49 MW; Washington, 680 MW; Oregon, 439 MW; California, 2320 MW; Idaho, 75 MW; Utah, 1 MW; Montana, 147 MW; Wyoming, 288 MW; Colorado, 291 MW; New Mexico, 407 MW; North Dakota, 178 MW; South Dakota, 44 MW; Nebraska, 73 MW; Kansas, 364 MW; Oklahoma, 475 MW; Texas, 2898 MW; Minnesota, 794 MW; Iowa, 837 MW; Wisconsin, 53 MW; Illinois, 107 MW; Tennessee, 29 MW; Michigan, 3 MW; Ohio, 7 MW; West Virginia, 66 MW; Pennsylvania, 153 MW; New Jersey, 8 MW; New York, 280 MW; Vermont, 6 MW; New Hampshire, 1 MW; Massachusetts, 4 MW; Rhode Island, 1 MW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198108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Wind Farms in California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 of wind pow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energy production can exceed world energy consumption 5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wind power use in at least 3 windy states can provide energy for all the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8534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merged water turb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fully develop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ffects on the environment (seali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Machine f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big tide different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86200" y="312408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5334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ofuels (Ethanol from Corn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 up 50%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from corn kernels, need technology to use cellulose (agricultural waste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support from farm state sen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corn"/>
          <p:cNvPicPr/>
          <p:nvPr/>
        </p:nvPicPr>
        <p:blipFill>
          <a:blip r:embed="rId2"/>
          <a:stretch/>
        </p:blipFill>
        <p:spPr>
          <a:xfrm>
            <a:off x="3124080" y="4114800"/>
            <a:ext cx="28195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me 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2 gall of ethanol = energy of 28 gal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e uses lots of 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urn coal to make it!!!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shipped in pipelines…trucked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sel machines harvest it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corn.jpg"/>
          <p:cNvPicPr/>
          <p:nvPr/>
        </p:nvPicPr>
        <p:blipFill>
          <a:blip r:embed="rId2"/>
          <a:stretch/>
        </p:blipFill>
        <p:spPr>
          <a:xfrm>
            <a:off x="7086600" y="4724280"/>
            <a:ext cx="1676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s only 10% more energy than required to make i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ing fields, harvesting, distilling to 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Cane is 7X more efficie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ugar Cane needs less processing (don’t need to convert to sugar to distill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 heavily tax Brazilian ethanol to prevent competition he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corn.jpg"/>
          <p:cNvPicPr/>
          <p:nvPr/>
        </p:nvPicPr>
        <p:blipFill>
          <a:blip r:embed="rId2"/>
          <a:stretch/>
        </p:blipFill>
        <p:spPr>
          <a:xfrm>
            <a:off x="7162920" y="304920"/>
            <a:ext cx="1342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ulose Ethano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fuel 1/3 of all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est waste stalks (no extra fertilizer to grow th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talk than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sugars removed, can burn lignin left over; get heat for cogeneration (elec 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corn.jpg"/>
          <p:cNvPicPr/>
          <p:nvPr/>
        </p:nvPicPr>
        <p:blipFill>
          <a:blip r:embed="rId2"/>
          <a:stretch/>
        </p:blipFill>
        <p:spPr>
          <a:xfrm>
            <a:off x="6934320" y="380880"/>
            <a:ext cx="19810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Kudzu: the next biofuel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tatehouse11.jpg"/>
          <p:cNvPicPr/>
          <p:nvPr/>
        </p:nvPicPr>
        <p:blipFill>
          <a:blip r:embed="rId2"/>
          <a:stretch/>
        </p:blipFill>
        <p:spPr>
          <a:xfrm>
            <a:off x="1676520" y="1752480"/>
            <a:ext cx="6092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gae makes fu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s almost anywhere wit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oil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A Bioreactor"/>
          <p:cNvPicPr/>
          <p:nvPr/>
        </p:nvPicPr>
        <p:blipFill>
          <a:blip r:embed="rId2"/>
          <a:stretch/>
        </p:blipFill>
        <p:spPr>
          <a:xfrm>
            <a:off x="1066680" y="2185920"/>
            <a:ext cx="6477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380880"/>
          <a:ext cx="7696080" cy="4889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e941c"/>
                          </a:solidFill>
                          <a:uFillTx/>
                          <a:latin typeface="Arial"/>
                        </a:rPr>
                        <a:t>Co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e941c"/>
                          </a:solidFill>
                          <a:uFillTx/>
                          <a:latin typeface="Arial"/>
                        </a:rPr>
                        <a:t>Alga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gallons fuel per a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net 5 - 15,000 gallons fuel per a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s a year to gr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s a few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t be distilled and processed more extensively for biofu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ae is 50% oil, easily converted to biofu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farm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grown anywhere (deserts.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s for food crop sp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ompetition for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Algae"/>
          <p:cNvPicPr/>
          <p:nvPr/>
        </p:nvPicPr>
        <p:blipFill>
          <a:blip r:embed="rId2"/>
          <a:stretch/>
        </p:blipFill>
        <p:spPr>
          <a:xfrm>
            <a:off x="5105520" y="5181480"/>
            <a:ext cx="278604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corn.jpg"/>
          <p:cNvPicPr/>
          <p:nvPr/>
        </p:nvPicPr>
        <p:blipFill>
          <a:blip r:embed="rId3"/>
          <a:stretch/>
        </p:blipFill>
        <p:spPr>
          <a:xfrm>
            <a:off x="1828800" y="510552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ing energy from surface wave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941c"/>
                </a:solidFill>
                <a:uFillTx/>
                <a:latin typeface="Arial"/>
              </a:rPr>
              <a:t>Geotherm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Heat taken from the Earth in steam or heated wa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 areas close to geological faults or hot spo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174240"/>
            <a:ext cx="3203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 sh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174240"/>
            <a:ext cx="3660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346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sh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ing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of the waves acts as a pu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nefi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s significant amount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a machine that will work efficiently with waves of different siz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in the aquat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w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ing utilized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theastern &amp; northwestern coasts of United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s (when develop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lf stream, Florida straits current, California current; estuary in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eryone in the world inter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aterial made by plants and/or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read about this in your 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251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ee941c"/>
                </a:solidFill>
                <a:uFillTx/>
                <a:latin typeface="Arial"/>
              </a:rPr>
              <a:t>High Heat Sourc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gma heats rocks and aquifer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rill a well to bring hot water/steam to surfa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eam turns turbine to make electricit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t Rock Geothermal Energy"/>
          <p:cNvPicPr/>
          <p:nvPr/>
        </p:nvPicPr>
        <p:blipFill>
          <a:blip r:embed="rId2"/>
          <a:stretch/>
        </p:blipFill>
        <p:spPr>
          <a:xfrm>
            <a:off x="6629400" y="2362320"/>
            <a:ext cx="2362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e941c"/>
                </a:solidFill>
                <a:uFillTx/>
                <a:latin typeface="Times New Roman"/>
              </a:rPr>
              <a:t>Low heat sources (Groundwat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ent virtually every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ant temperature groundwater is used to pump through house to warm it or cool 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efficient, not converting one form of energy to another, simply transferring h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Map of USA Geothermal Power Hotspots"/>
          <p:cNvPicPr/>
          <p:nvPr/>
        </p:nvPicPr>
        <p:blipFill>
          <a:blip r:embed="rId2"/>
          <a:stretch/>
        </p:blipFill>
        <p:spPr>
          <a:xfrm>
            <a:off x="457200" y="152280"/>
            <a:ext cx="81504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imes New Roman"/>
              </a:rPr>
              <a:t>Benefit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e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expens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und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ttle land disturba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imes New Roman"/>
              </a:rPr>
              <a:t>Problem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is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emissions and hazardous miner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monia, sulfur dioxide, hydrogen sulf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ly to install geothermal heat pum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5:18Z</dcterms:created>
  <dc:creator>tosborne</dc:creator>
  <dc:description/>
  <dc:language>en-US</dc:language>
  <cp:lastModifiedBy>tosborne</cp:lastModifiedBy>
  <dcterms:modified xsi:type="dcterms:W3CDTF">2009-01-13T15:54:23Z</dcterms:modified>
  <cp:revision>26</cp:revision>
  <dc:subject/>
  <dc:title>Slide 1</dc:title>
</cp:coreProperties>
</file>